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B897F-C17E-45EE-988D-0DD60D2E396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7B731-9ED8-4280-A5FE-4A0648B6E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photos to possibly use another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1F844-DC30-432F-BBD5-2C7D1139F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631C-8453-4CA9-AD1B-8995C082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603-BC5C-47CF-9B73-913F540C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8CF-B99D-4588-AB9B-38E4C67F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981-1095-4112-8420-65EAD023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CBF-0063-40F9-B1BD-70598631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F8A2-3169-44C1-A6F2-47053912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D319-EE70-4E87-8D90-46CBF872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1504-C53F-45D6-B27F-903A5044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8E45-FABB-4B23-857D-0E0ECAFE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DD0D-A847-481C-A2C7-25993470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E933-8472-4D6B-BB0C-7BD7EBC3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436-21B9-44D7-83FE-8E9E7869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6771E6-B51F-4DAD-82D9-2909A6A2ED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1BFF8-20CE-49EA-A464-80698E852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33440" y="925560"/>
            <a:ext cx="3695760" cy="3632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-108000" y="4000680"/>
            <a:ext cx="4343400" cy="2857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4343400" y="3911760"/>
            <a:ext cx="4533840" cy="2946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4"/>
          <a:stretch/>
        </p:blipFill>
        <p:spPr>
          <a:xfrm>
            <a:off x="4357800" y="987480"/>
            <a:ext cx="4519440" cy="2644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2281320" y="95400"/>
            <a:ext cx="65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are and contrast the photos from 1968 (left) to the photos from 2006 (right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(6 + observ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181080" y="9540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1859c"/>
                </a:solidFill>
                <a:latin typeface="Calibri"/>
              </a:rPr>
              <a:t>START UP-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1859c"/>
                </a:solidFill>
                <a:latin typeface="Calibri"/>
              </a:rPr>
              <a:t>Page 1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CTION – Bottom ½ Page 14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5520" y="1600200"/>
            <a:ext cx="853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we watch films or read books w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ically relate &amp; compare our lives to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rac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aspects of this film could you really relate to? Was there anything you could not relate to? (5 li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984400" y="1911240"/>
            <a:ext cx="3175200" cy="303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1714680" y="1098720"/>
            <a:ext cx="5715000" cy="466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1727280" y="1701720"/>
            <a:ext cx="568944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2:14:07Z</dcterms:created>
  <dc:creator>Teacher</dc:creator>
  <dc:description/>
  <dc:language>en-US</dc:language>
  <cp:lastModifiedBy>Teacher</cp:lastModifiedBy>
  <dcterms:modified xsi:type="dcterms:W3CDTF">2012-03-15T00:33:22Z</dcterms:modified>
  <cp:revision>4</cp:revision>
  <dc:subject/>
  <dc:title>Slide 1</dc:title>
</cp:coreProperties>
</file>